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436-71CE-4181-9E39-37FDB97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FBE-35C4-4CD6-B4A4-A83F6EC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22D-44E3-47F4-8A13-9DB33552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F96-F885-4645-9662-B99AF691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AF4-0D69-4970-B706-5BCFFBB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F0E-5DEF-47A1-82CA-A83E535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77E-231E-46B2-92DA-3776CEB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F65-3C70-4D5C-85DF-456E715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411-388D-48A3-BD44-55863377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997-4A62-4824-956B-8CC1648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4DB-8C17-414E-9EF2-EDF4581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D6D-1CF9-4F2E-A0CB-ECF8D22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3F6-D634-47CC-AAF8-9120AF21939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could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ight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ay 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TRACK 1  I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essi can’t drive 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hat fat guy couldn’t be a football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are almost certain that it is not tr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ary has a green car. She lives in a green house. Her room is green. She always wears a green 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he likes green. (You are certain) (100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hat boy is reading ‘The Guardian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51988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could be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learning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improving his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ay be a foreig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hat man is carrying an Italian magazine. He is speaking Italian to the people with h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06728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ust be Ital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Now read the situations below and write sentences with your frien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ony goes abroad every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ary and her mother eat a pizza every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im always carries old people’s ba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ally drives a Mercedes and lives in a villa in Cekmeko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here are a lot of Richard Gere posters in my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r Broth always wears a blue t-shi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- to express pos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You are making a gu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You show that you believe something is possible (50% certain), but you are not certain if it 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rue or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could like blue.               less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might like blue.              less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may like blue.                 more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rs Tookon always wears a red hat, a red skirt and red sho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8478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he must like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- to express prob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show that you belive something is probably true (90 % cer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971640" y="1628640"/>
            <a:ext cx="58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Look at the tall man! He is carrying a stethosco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4314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..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are almost certain that it is tr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06:23Z</dcterms:created>
  <dc:creator>eaeray</dc:creator>
  <dc:description/>
  <dc:language>en-US</dc:language>
  <cp:lastModifiedBy>EFL</cp:lastModifiedBy>
  <dcterms:modified xsi:type="dcterms:W3CDTF">2012-02-19T16:11:33Z</dcterms:modified>
  <cp:revision>18</cp:revision>
  <dc:subject/>
  <dc:title>could might may</dc:title>
</cp:coreProperties>
</file>